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72C-93F5-4E99-8F8A-FE0CA2FE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9FA-3B9E-4B7E-9D53-66C9276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C1E-709C-43CA-A0F2-57AEF8FF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8C0-BC47-4589-851F-D06DA829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765-C445-4A3D-ACD2-4C64812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F43-B030-4368-9073-3674C4A3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68A-0191-443A-9A87-071476C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074-BA3E-4C79-92D4-21C34A92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66B-A492-410C-AED3-BE28CCBC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D28-D6C9-4956-AADE-D037E95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D32-04E7-46D9-B6B0-C0A4C85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228-CF8B-4275-BBC3-2157C22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C44-8426-430D-BDDF-C1E3E6AD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0040" y="55627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y Shannon Ke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828800"/>
            <a:ext cx="624852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 can count!</a:t>
            </a:r>
            <a:endParaRPr b="0" lang="en-US" sz="40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0  1 2 3 4 5 6 7 8 9 10</a:t>
            </a:r>
            <a:endParaRPr b="0" lang="en-US" sz="40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3" name="backpack" descr=""/>
          <p:cNvPicPr/>
          <p:nvPr/>
        </p:nvPicPr>
        <p:blipFill>
          <a:blip r:embed="rId1"/>
          <a:stretch/>
        </p:blipFill>
        <p:spPr>
          <a:xfrm>
            <a:off x="3657600" y="2895480"/>
            <a:ext cx="18972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35040" y="92160"/>
            <a:ext cx="7543080" cy="28976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zer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on’t have anything for zero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 is all al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83280" y="4724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60440" y="222120"/>
            <a:ext cx="7029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have one red ap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appleshine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189080" cy="131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81280" y="5029200"/>
            <a:ext cx="143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1440" y="457200"/>
            <a:ext cx="700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see two ki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kidgiftx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1028520" cy="2217960"/>
          </a:xfrm>
          <a:prstGeom prst="rect">
            <a:avLst/>
          </a:prstGeom>
          <a:ln w="0">
            <a:noFill/>
          </a:ln>
        </p:spPr>
      </p:pic>
      <p:pic>
        <p:nvPicPr>
          <p:cNvPr id="51" name="kidpartyx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1692360" cy="194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5257800"/>
            <a:ext cx="34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    2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808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47080" y="45072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480" y="222120"/>
            <a:ext cx="8503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see three ballo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balloonkidx" descr=""/>
          <p:cNvPicPr/>
          <p:nvPr/>
        </p:nvPicPr>
        <p:blipFill>
          <a:blip r:embed="rId1"/>
          <a:stretch/>
        </p:blipFill>
        <p:spPr>
          <a:xfrm>
            <a:off x="5526000" y="1828800"/>
            <a:ext cx="184788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69840" y="5251320"/>
            <a:ext cx="26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 2  3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7640" y="527040"/>
            <a:ext cx="6903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see four frogs drumm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drummer-frogx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4968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drummer-frogx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1496880" cy="2125440"/>
          </a:xfrm>
          <a:prstGeom prst="rect">
            <a:avLst/>
          </a:prstGeom>
          <a:ln w="0">
            <a:noFill/>
          </a:ln>
        </p:spPr>
      </p:pic>
      <p:pic>
        <p:nvPicPr>
          <p:cNvPr id="61" name="drummer-frogx" descr=""/>
          <p:cNvPicPr/>
          <p:nvPr/>
        </p:nvPicPr>
        <p:blipFill>
          <a:blip r:embed="rId3"/>
          <a:stretch/>
        </p:blipFill>
        <p:spPr>
          <a:xfrm>
            <a:off x="3886200" y="2819520"/>
            <a:ext cx="149688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drummer-frogx" descr=""/>
          <p:cNvPicPr/>
          <p:nvPr/>
        </p:nvPicPr>
        <p:blipFill>
          <a:blip r:embed="rId4"/>
          <a:stretch/>
        </p:blipFill>
        <p:spPr>
          <a:xfrm>
            <a:off x="5638680" y="2819520"/>
            <a:ext cx="1497240" cy="212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5251320"/>
            <a:ext cx="52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    2      3      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2040" y="146160"/>
            <a:ext cx="607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0560" y="1347840"/>
            <a:ext cx="788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see five leaping crickets with lu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x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lunch-cricketx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477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lunch-cricketx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lunch-cricketx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lunch-cricketx" descr=""/>
          <p:cNvPicPr/>
          <p:nvPr/>
        </p:nvPicPr>
        <p:blipFill>
          <a:blip r:embed="rId4"/>
          <a:stretch/>
        </p:blipFill>
        <p:spPr>
          <a:xfrm>
            <a:off x="5334120" y="274320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lunch-cricketx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17360" y="4952880"/>
            <a:ext cx="671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    2     3    4      5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5:40:58Z</dcterms:created>
  <dc:creator>Jefferson County Schools</dc:creator>
  <dc:description/>
  <dc:language>en-US</dc:language>
  <cp:lastModifiedBy>Jefferson County Schools</cp:lastModifiedBy>
  <dcterms:modified xsi:type="dcterms:W3CDTF">1999-11-15T17:42:00Z</dcterms:modified>
  <cp:revision>3</cp:revision>
  <dc:subject/>
  <dc:title>PowerPoint Presentation</dc:title>
</cp:coreProperties>
</file>